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E10-5B07-47F8-ADE3-70C63390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0A2-8B59-4FAE-89AD-0685834A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515-CCB0-476B-BE72-1B268CAC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AC1-0F7A-45BC-ACB4-1283F4C2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383-47B5-48E1-842D-1BDDA37C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31F-59DD-4A94-8A89-5C537339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42F-05EA-4A66-BA3E-0933F2CE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157-14E3-4F13-8BC2-F19B2C0F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1EC-4246-4666-81CF-9B8CC7F8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A25-DD04-4239-BE52-64375E37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F87-4FDC-4BF5-95EF-86DCA42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82C-1776-4A76-8C61-FC4A058B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A73C-07CA-47B5-9C5F-7D662D754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Friends 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7617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ent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ers (P) explain, audience (A) list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arific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asks clarifying questions, P respond (I’m not sure what you meant by….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alu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uses Project Design Rubric (p69-70), P wa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Like…”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hares what they liked, P lis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Wonder…”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hares concerns, P lis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flec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reflect on useful feedback, A list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Have…”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hares ideas for project, P may respo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20:12:19Z</dcterms:created>
  <dc:creator>MNPS User</dc:creator>
  <dc:description/>
  <dc:language>en-US</dc:language>
  <cp:lastModifiedBy>ctrumbo</cp:lastModifiedBy>
  <dcterms:modified xsi:type="dcterms:W3CDTF">2011-07-28T13:19:58Z</dcterms:modified>
  <cp:revision>3</cp:revision>
  <dc:subject/>
  <dc:title>Slide 1</dc:title>
</cp:coreProperties>
</file>